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5.gif" ContentType="image/gif"/>
  <Override PartName="/ppt/media/image22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8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2D4-BF6B-4760-AA00-CF514B88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85F-A090-4582-B746-611C10CF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B89-AEA5-4A7D-8036-567E84EF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FC3-2F3B-4B41-823E-CC7F0620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232-F9F7-41F7-9B07-7F4B0A24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A9A-855D-4953-A37A-30CC5FD8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196-68ED-4054-AE6C-A419C2BC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7AC-CD1E-48A8-BD23-D6F7C09D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3DC-ED1C-4A66-AEBF-9F6BD7A1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D63-FC6F-4F3C-9511-D4D90F07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94A-E55A-4DA0-9F28-4DA34E2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913-9767-49B5-96DF-B025A7C9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A3E5-78A0-4670-A761-FB302BF345D1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as.com/recorte/20071123dasdasftb_15/C280/Ies/Iker_Casillas_gala_Premios_AS.jpg&amp;imgrefurl=http://www.as.com/futbol/articulo/casillas-puedo-aconsejar-barca-nos/dasftb/20071123dasdasftb_14/Tes&amp;usg=__8zCDLsicGo18G21YiOaF89Rq7Go=&amp;h=280&amp;w=280&amp;sz=16&amp;hl=es&amp;start=85&amp;tbnid=lb9ouz_KyX8KsM:&amp;tbnh=114&amp;tbnw=114&amp;prev=/images%3Fq%3DIker%2BCasillas%26start%3D80%26gbv%3D2%26ndsp%3D20%26hl%3Des%26sa%3DN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rafael-nadal.net/fotos1/rafa/nadal-11.jpg&amp;imgrefurl=http://www.rafael-nadal.net/2005/10/23/y-ya-van-11/&amp;usg=__fGKuiTTPevrZ79pRCWLYXdHD7Yo=&amp;h=514&amp;w=400&amp;sz=30&amp;hl=es&amp;start=16&amp;tbnid=pyNum1tn49xwAM:&amp;tbnh=131&amp;tbnw=102&amp;prev=/images%3Fq%3DNadal%26gbv%3D2%26hl%3Des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9228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rial"/>
              </a:rPr>
              <a:t>Past Continuo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"/>
              </a:rPr>
              <a:t>FORM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was/were + gerund (vb.+-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250920" y="692280"/>
            <a:ext cx="889308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t night at 6 PM, I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eat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i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 midnight, we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still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riv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through the deser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terday at this time, I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sitt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at my desk at work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0" y="260280"/>
            <a:ext cx="9144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MPORTANT: Time comp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the Simple Past, a specific time is used to show when an action began or finished. In the Past Continuous, a specific time only interrupts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st nigh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at 6 P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I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dinner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      (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I started eating at 6 P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st night a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6 P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I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as eating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dinner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     (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I started earlier; and at 6 PM, I was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in the process of eating din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835280" y="476280"/>
            <a:ext cx="52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USE 3: Parallel A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astcontinuousparallel"/>
          <p:cNvPicPr/>
          <p:nvPr/>
        </p:nvPicPr>
        <p:blipFill>
          <a:blip r:embed="rId1"/>
          <a:stretch/>
        </p:blipFill>
        <p:spPr>
          <a:xfrm>
            <a:off x="1619280" y="2276640"/>
            <a:ext cx="5624640" cy="1090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11280" y="436572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hen you use the Past Continuous with two actions in the same sentence, it expresses the idea that both actions were happening at the 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ame tim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The actions are parallel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8360" y="692280"/>
            <a:ext cx="792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study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while he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mak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inn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ile Ellen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read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Tim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watch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televis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765000"/>
            <a:ext cx="871380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Simpl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Past Continuo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tudy the examples below. They have similar meanings, but they emphasize different parts of the sentence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 was studying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when she calle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While I was studying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she cal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835280" y="836640"/>
            <a:ext cx="1871640" cy="485640"/>
          </a:xfrm>
          <a:prstGeom prst="rightArrow">
            <a:avLst>
              <a:gd name="adj1" fmla="val 50000"/>
              <a:gd name="adj2" fmla="val 963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692360" y="2349360"/>
            <a:ext cx="2016000" cy="486000"/>
          </a:xfrm>
          <a:prstGeom prst="rightArrow">
            <a:avLst>
              <a:gd name="adj1" fmla="val 50000"/>
              <a:gd name="adj2" fmla="val 103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"/>
          <p:cNvGrpSpPr/>
          <p:nvPr/>
        </p:nvGrpSpPr>
        <p:grpSpPr>
          <a:xfrm>
            <a:off x="0" y="0"/>
            <a:ext cx="8643960" cy="6276240"/>
            <a:chOff x="0" y="0"/>
            <a:chExt cx="8643960" cy="6276240"/>
          </a:xfrm>
        </p:grpSpPr>
        <p:sp>
          <p:nvSpPr>
            <p:cNvPr id="70" name="AutoShape 6"/>
            <p:cNvSpPr/>
            <p:nvPr/>
          </p:nvSpPr>
          <p:spPr>
            <a:xfrm>
              <a:off x="356760" y="1213200"/>
              <a:ext cx="8287200" cy="492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5"/>
            <p:cNvSpPr/>
            <p:nvPr/>
          </p:nvSpPr>
          <p:spPr>
            <a:xfrm>
              <a:off x="0" y="0"/>
              <a:ext cx="8287200" cy="49294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WordArt 4"/>
            <p:cNvSpPr txBox="1"/>
            <p:nvPr/>
          </p:nvSpPr>
          <p:spPr>
            <a:xfrm rot="21204600">
              <a:off x="581040" y="705240"/>
              <a:ext cx="5848200" cy="23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2">
                <a:avLst>
                  <a:gd name="adj1" fmla="val 20644"/>
                  <a:gd name="adj2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7030a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Airmole Shaded"/>
                </a:rPr>
                <a:t>Past SIMPLE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irmole Shaded"/>
                <a:ea typeface="Airmole Shaded"/>
              </a:endParaRPr>
            </a:p>
          </p:txBody>
        </p:sp>
        <p:sp>
          <p:nvSpPr>
            <p:cNvPr id="73" name="WordArt 3"/>
            <p:cNvSpPr txBox="1"/>
            <p:nvPr/>
          </p:nvSpPr>
          <p:spPr>
            <a:xfrm>
              <a:off x="1000080" y="1927800"/>
              <a:ext cx="6822000" cy="273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2">
                <a:avLst>
                  <a:gd name="adj1" fmla="val 20644"/>
                  <a:gd name="adj2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ccff"/>
                    </a:solidFill>
                    <a:miter/>
                  </a:ln>
                  <a:solidFill>
                    <a:srgbClr val="ffcc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Airmole Shaded"/>
                </a:rPr>
                <a:t>or CONTINUOUS</a:t>
              </a:r>
              <a:endParaRPr b="0" lang="en-US" sz="18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irmole Shaded"/>
                <a:ea typeface="Airmole Shaded"/>
              </a:endParaRPr>
            </a:p>
          </p:txBody>
        </p:sp>
        <p:pic>
          <p:nvPicPr>
            <p:cNvPr id="74" name="Picture 2" descr="0001"/>
            <p:cNvPicPr/>
            <p:nvPr/>
          </p:nvPicPr>
          <p:blipFill>
            <a:blip r:embed="rId1"/>
            <a:stretch/>
          </p:blipFill>
          <p:spPr>
            <a:xfrm>
              <a:off x="6500520" y="3928680"/>
              <a:ext cx="1558440" cy="23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404640"/>
            <a:ext cx="8893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lang="es-ES_tradnl" sz="8800" spc="-1" strike="noStrike">
                <a:solidFill>
                  <a:srgbClr val="bbe0e3"/>
                </a:solidFill>
                <a:latin typeface="Arial"/>
              </a:rPr>
              <a:t>e</a:t>
            </a:r>
            <a:r>
              <a:rPr b="1" lang="es-ES_tradnl" sz="8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s-ES_tradnl" sz="8800" spc="-1" strike="noStrike">
                <a:solidFill>
                  <a:srgbClr val="990099"/>
                </a:solidFill>
                <a:latin typeface="Arial"/>
              </a:rPr>
              <a:t>’</a:t>
            </a: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1" lang="es-ES_tradn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8800" spc="-1" strike="noStrike">
                <a:solidFill>
                  <a:srgbClr val="990099"/>
                </a:solidFill>
                <a:latin typeface="Arial"/>
              </a:rPr>
              <a:t>g</a:t>
            </a:r>
            <a:r>
              <a:rPr b="1" lang="es-ES_tradnl" sz="8800" spc="-1" strike="noStrike">
                <a:solidFill>
                  <a:srgbClr val="bbe0e3"/>
                </a:solidFill>
                <a:latin typeface="Arial"/>
              </a:rPr>
              <a:t>o</a:t>
            </a:r>
            <a:r>
              <a:rPr b="1" lang="es-ES_tradn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88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r</a:t>
            </a:r>
            <a:r>
              <a:rPr b="1" lang="es-ES_tradnl" sz="8800" spc="-1" strike="noStrike">
                <a:solidFill>
                  <a:srgbClr val="990099"/>
                </a:solidFill>
                <a:latin typeface="Arial"/>
              </a:rPr>
              <a:t>a</a:t>
            </a:r>
            <a:r>
              <a:rPr b="1" lang="es-ES_tradnl" sz="8800" spc="-1" strike="noStrike">
                <a:solidFill>
                  <a:srgbClr val="bbe0e3"/>
                </a:solidFill>
                <a:latin typeface="Arial"/>
              </a:rPr>
              <a:t>c</a:t>
            </a:r>
            <a:r>
              <a:rPr b="1" lang="es-ES_tradnl" sz="8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es-ES_tradnl" sz="88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1" lang="es-ES_tradnl" sz="8800" spc="-1" strike="noStrike">
                <a:solidFill>
                  <a:srgbClr val="990099"/>
                </a:solidFill>
                <a:latin typeface="Arial"/>
              </a:rPr>
              <a:t>c</a:t>
            </a: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e</a:t>
            </a:r>
            <a:r>
              <a:rPr b="1" lang="es-ES_tradnl" sz="8800" spc="-1" strike="noStrike">
                <a:solidFill>
                  <a:srgbClr val="bbe0e3"/>
                </a:solidFill>
                <a:latin typeface="Arial"/>
              </a:rPr>
              <a:t>!</a:t>
            </a:r>
            <a:r>
              <a:rPr b="1" lang="es-ES_tradnl" sz="88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Make a compound sentence for each picture us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WHILE / 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1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"/>
          <p:cNvPicPr/>
          <p:nvPr/>
        </p:nvPicPr>
        <p:blipFill>
          <a:blip r:embed="rId1"/>
          <a:stretch/>
        </p:blipFill>
        <p:spPr>
          <a:xfrm>
            <a:off x="611280" y="549360"/>
            <a:ext cx="76057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1413000"/>
            <a:ext cx="63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Sarah and Paul </a:t>
            </a:r>
            <a:r>
              <a:rPr b="1" lang="es-ES_tradnl" sz="5400" spc="-1" strike="noStrike">
                <a:solidFill>
                  <a:srgbClr val="ff0000"/>
                </a:solidFill>
                <a:latin typeface="Arial"/>
              </a:rPr>
              <a:t>were reading</a:t>
            </a: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 when the telephone </a:t>
            </a:r>
            <a:r>
              <a:rPr b="1" lang="es-ES_tradnl" sz="5400" spc="-1" strike="noStrike">
                <a:solidFill>
                  <a:srgbClr val="0000ff"/>
                </a:solidFill>
                <a:latin typeface="Arial"/>
              </a:rPr>
              <a:t>ra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3.bp.blogspot.com/_pZn8dmC1fhU/TJXZ8XM6OSI/AAAAAAAAG9Y/k2wItHN5apM/s1600/llamar_a_la_puerta%5B1%5D.png"/>
          <p:cNvPicPr/>
          <p:nvPr/>
        </p:nvPicPr>
        <p:blipFill>
          <a:blip r:embed="rId1"/>
          <a:stretch/>
        </p:blipFill>
        <p:spPr>
          <a:xfrm>
            <a:off x="500040" y="3429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79" name="4 CuadroTexto"/>
          <p:cNvSpPr/>
          <p:nvPr/>
        </p:nvSpPr>
        <p:spPr>
          <a:xfrm>
            <a:off x="3797280" y="578628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KN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http://www.onecorazon.com/wp-content/uploads/2010/07/Cristiano-Ronaldo3.jpg"/>
          <p:cNvPicPr/>
          <p:nvPr/>
        </p:nvPicPr>
        <p:blipFill>
          <a:blip r:embed="rId2"/>
          <a:stretch/>
        </p:blipFill>
        <p:spPr>
          <a:xfrm>
            <a:off x="6029280" y="2857680"/>
            <a:ext cx="3114720" cy="380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://eslatele.com/wp-content/uploads/2007/06/arguinano1.jpg"/>
          <p:cNvPicPr/>
          <p:nvPr/>
        </p:nvPicPr>
        <p:blipFill>
          <a:blip r:embed="rId3"/>
          <a:stretch/>
        </p:blipFill>
        <p:spPr>
          <a:xfrm>
            <a:off x="928800" y="-214200"/>
            <a:ext cx="50083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clipartof.com/images/clipart/thumbnail2/6093_fat_bald_man_mowing_lawn.jpg"/>
          <p:cNvPicPr/>
          <p:nvPr/>
        </p:nvPicPr>
        <p:blipFill>
          <a:blip r:embed="rId1"/>
          <a:stretch/>
        </p:blipFill>
        <p:spPr>
          <a:xfrm>
            <a:off x="3571920" y="928800"/>
            <a:ext cx="3798720" cy="3493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5960" y="5716440"/>
            <a:ext cx="80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y father (cut) _______ the grass at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126828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Arguiñano 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ff0000"/>
                </a:solidFill>
                <a:latin typeface="Arial"/>
              </a:rPr>
              <a:t>was cooking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when Ronaldo </a:t>
            </a:r>
            <a:r>
              <a:rPr b="1" lang="es-ES_tradnl" sz="6000" spc="-1" strike="noStrike">
                <a:solidFill>
                  <a:srgbClr val="0000ff"/>
                </a:solidFill>
                <a:latin typeface="Arial"/>
              </a:rPr>
              <a:t>knocked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 at the do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ker_Casillas_gala_Premios_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429000"/>
            <a:ext cx="317340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http://www.cosasdedeportes.es/images/espa%C3%B1a-villa.jpg"/>
          <p:cNvPicPr/>
          <p:nvPr/>
        </p:nvPicPr>
        <p:blipFill>
          <a:blip r:embed="rId3"/>
          <a:stretch/>
        </p:blipFill>
        <p:spPr>
          <a:xfrm>
            <a:off x="714240" y="500040"/>
            <a:ext cx="33339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illa </a:t>
            </a:r>
            <a:r>
              <a:rPr b="0" lang="es-ES" sz="5400" spc="-1" strike="noStrike">
                <a:solidFill>
                  <a:srgbClr val="ff0000"/>
                </a:solidFill>
                <a:latin typeface="Arial"/>
              </a:rPr>
              <a:t>was playing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football while Casillas </a:t>
            </a:r>
            <a:r>
              <a:rPr b="0" lang="es-ES" sz="5400" spc="-1" strike="noStrike">
                <a:solidFill>
                  <a:srgbClr val="ff0000"/>
                </a:solidFill>
                <a:latin typeface="Arial"/>
              </a:rPr>
              <a:t>was reading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a newspap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944880" cy="4008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11280" y="1268280"/>
            <a:ext cx="8281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The cat </a:t>
            </a:r>
            <a:r>
              <a:rPr b="0" lang="es-ES_tradnl" sz="6600" spc="-1" strike="noStrike">
                <a:solidFill>
                  <a:srgbClr val="ff0000"/>
                </a:solidFill>
                <a:latin typeface="Arial"/>
              </a:rPr>
              <a:t>was sleeping</a:t>
            </a: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 while the monkey </a:t>
            </a:r>
            <a:r>
              <a:rPr b="0" lang="es-ES_tradnl" sz="6600" spc="-1" strike="noStrike">
                <a:solidFill>
                  <a:srgbClr val="ff0000"/>
                </a:solidFill>
                <a:latin typeface="Arial"/>
              </a:rPr>
              <a:t>was pain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1625760"/>
            <a:ext cx="3168720" cy="232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2957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1484280"/>
            <a:ext cx="777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s-ES_tradnl" sz="6600" spc="-1" strike="noStrike">
                <a:solidFill>
                  <a:srgbClr val="ff0000"/>
                </a:solidFill>
                <a:latin typeface="Arial"/>
              </a:rPr>
              <a:t>was skiing</a:t>
            </a: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 when he </a:t>
            </a:r>
            <a:r>
              <a:rPr b="0" lang="es-ES_tradnl" sz="6600" spc="-1" strike="noStrike">
                <a:solidFill>
                  <a:srgbClr val="0000ff"/>
                </a:solidFill>
                <a:latin typeface="Arial"/>
              </a:rPr>
              <a:t>broke</a:t>
            </a: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 his le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160800" cy="386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6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71640" y="1413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atching TV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while the monkey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rit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a le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19280" y="2260440"/>
            <a:ext cx="4681440" cy="3443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732720" y="692280"/>
            <a:ext cx="1563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clipartof.com/images/clipart/thumbnail2/6093_fat_bald_man_mowing_lawn.jpg"/>
          <p:cNvPicPr/>
          <p:nvPr/>
        </p:nvPicPr>
        <p:blipFill>
          <a:blip r:embed="rId1"/>
          <a:stretch/>
        </p:blipFill>
        <p:spPr>
          <a:xfrm>
            <a:off x="3571920" y="928800"/>
            <a:ext cx="3798720" cy="3493800"/>
          </a:xfrm>
          <a:prstGeom prst="rect">
            <a:avLst/>
          </a:prstGeom>
          <a:ln w="0">
            <a:noFill/>
          </a:ln>
        </p:spPr>
      </p:pic>
      <p:sp>
        <p:nvSpPr>
          <p:cNvPr id="45" name="2 Rectángulo"/>
          <p:cNvSpPr/>
          <p:nvPr/>
        </p:nvSpPr>
        <p:spPr>
          <a:xfrm>
            <a:off x="-1571760" y="5643720"/>
            <a:ext cx="107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y father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as cutting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grass at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55640" y="1413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Winnie and his friends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ere hav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a picnic when it </a:t>
            </a:r>
            <a:r>
              <a:rPr b="0" lang="es-ES_tradnl" sz="6000" spc="-1" strike="noStrike">
                <a:solidFill>
                  <a:srgbClr val="0000ff"/>
                </a:solidFill>
                <a:latin typeface="Arial"/>
              </a:rPr>
              <a:t>started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o 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0719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03280" y="1773360"/>
            <a:ext cx="62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ere hav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a meeting/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ork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when the phone </a:t>
            </a:r>
            <a:r>
              <a:rPr b="0" lang="es-ES_tradnl" sz="6000" spc="-1" strike="noStrike">
                <a:solidFill>
                  <a:srgbClr val="0000ff"/>
                </a:solidFill>
                <a:latin typeface="Arial"/>
              </a:rPr>
              <a:t>ra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nadal-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156120" cy="4052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roger-federer-crying"/>
          <p:cNvPicPr/>
          <p:nvPr/>
        </p:nvPicPr>
        <p:blipFill>
          <a:blip r:embed="rId3"/>
          <a:stretch/>
        </p:blipFill>
        <p:spPr>
          <a:xfrm>
            <a:off x="4284720" y="1830240"/>
            <a:ext cx="446400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adal 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was biting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the tr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ile Federer 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was cr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7" descr="http://opicole.laopiniondemurcia.org/sanbuenaventura/files/monoplaza-ferrari-kimi-raikonen-felipe-masa-formula-1.jpg"/>
          <p:cNvPicPr/>
          <p:nvPr/>
        </p:nvPicPr>
        <p:blipFill>
          <a:blip r:embed="rId1"/>
          <a:stretch/>
        </p:blipFill>
        <p:spPr>
          <a:xfrm>
            <a:off x="4500720" y="3643200"/>
            <a:ext cx="4286160" cy="278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http://img.thesun.co.uk/multimedia/archive/00464/LEWIS_CRASH_682x400_464183a.jpg"/>
          <p:cNvPicPr/>
          <p:nvPr/>
        </p:nvPicPr>
        <p:blipFill>
          <a:blip r:embed="rId2"/>
          <a:stretch/>
        </p:blipFill>
        <p:spPr>
          <a:xfrm>
            <a:off x="285840" y="142920"/>
            <a:ext cx="5957640" cy="3494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http://www.nascarbet.com/wp-content/uploads/Lewis-Hamilton.jpg"/>
          <p:cNvPicPr/>
          <p:nvPr/>
        </p:nvPicPr>
        <p:blipFill>
          <a:blip r:embed="rId3"/>
          <a:stretch/>
        </p:blipFill>
        <p:spPr>
          <a:xfrm>
            <a:off x="7000920" y="285840"/>
            <a:ext cx="1476360" cy="221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http://www.f1alonso.es/wp-content/uploads/2010/05/fernando-alonso-ferrari-problemas.jpg"/>
          <p:cNvPicPr/>
          <p:nvPr/>
        </p:nvPicPr>
        <p:blipFill>
          <a:blip r:embed="rId4"/>
          <a:stretch/>
        </p:blipFill>
        <p:spPr>
          <a:xfrm>
            <a:off x="1071720" y="4286160"/>
            <a:ext cx="2892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ernando Alonso 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was driv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Hamilton 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crashe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his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190817253_167f2b652d"/>
          <p:cNvPicPr/>
          <p:nvPr/>
        </p:nvPicPr>
        <p:blipFill>
          <a:blip r:embed="rId1"/>
          <a:stretch/>
        </p:blipFill>
        <p:spPr>
          <a:xfrm>
            <a:off x="468360" y="114480"/>
            <a:ext cx="4103640" cy="3314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mas12zu"/>
          <p:cNvPicPr/>
          <p:nvPr/>
        </p:nvPicPr>
        <p:blipFill>
          <a:blip r:embed="rId2"/>
          <a:stretch/>
        </p:blipFill>
        <p:spPr>
          <a:xfrm>
            <a:off x="4751280" y="1628640"/>
            <a:ext cx="3573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sa pataki </a:t>
            </a: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was having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ce-cream while “El Duque” </a:t>
            </a: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was dinking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a glass of w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240" y="4581000"/>
            <a:ext cx="5721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43040" y="2786040"/>
            <a:ext cx="2671920" cy="29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ttp://tombrad.files.wordpress.com/2010/02/terremoto1ks.jpg"/>
          <p:cNvPicPr/>
          <p:nvPr/>
        </p:nvPicPr>
        <p:blipFill>
          <a:blip r:embed="rId2"/>
          <a:stretch/>
        </p:blipFill>
        <p:spPr>
          <a:xfrm>
            <a:off x="3286080" y="214200"/>
            <a:ext cx="543096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clipartof.com/images/clipart/thumbnail2/4706_boy_and_girl_eating_food_together.jpg"/>
          <p:cNvPicPr/>
          <p:nvPr/>
        </p:nvPicPr>
        <p:blipFill>
          <a:blip r:embed="rId1">
            <a:lum contrast="6000"/>
          </a:blip>
          <a:srcRect l="0" t="0" r="-11654" b="0"/>
          <a:stretch/>
        </p:blipFill>
        <p:spPr>
          <a:xfrm>
            <a:off x="2500200" y="642960"/>
            <a:ext cx="4300560" cy="3984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500040" y="5220360"/>
            <a:ext cx="971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ra and Joe  (eat) 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hamburger and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lang="sl-SI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ce </a:t>
            </a: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sl-SI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re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826920" y="1484280"/>
            <a:ext cx="7632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s-ES_tradnl" sz="6600" spc="-1" strike="noStrike">
                <a:solidFill>
                  <a:srgbClr val="ff0000"/>
                </a:solidFill>
                <a:latin typeface="Arial"/>
              </a:rPr>
              <a:t>was listening to</a:t>
            </a: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 music when an earthquake </a:t>
            </a:r>
            <a:r>
              <a:rPr b="0" lang="es-ES_tradnl" sz="6600" spc="-1" strike="noStrike">
                <a:solidFill>
                  <a:srgbClr val="0000ff"/>
                </a:solidFill>
                <a:latin typeface="Arial"/>
              </a:rPr>
              <a:t>start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356000" y="765000"/>
            <a:ext cx="269100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26146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116000" y="1052640"/>
            <a:ext cx="69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atch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V while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eat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chicken legs and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drink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co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50920" y="105264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The sheep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atch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V when the alligartors </a:t>
            </a:r>
            <a:r>
              <a:rPr b="0" lang="es-ES_tradnl" sz="6000" spc="-1" strike="noStrike">
                <a:solidFill>
                  <a:srgbClr val="0000ff"/>
                </a:solidFill>
                <a:latin typeface="Arial"/>
              </a:rPr>
              <a:t>appeared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hrough a hole on the g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3648240" cy="409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067280" y="333360"/>
            <a:ext cx="4638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826920" y="1125360"/>
            <a:ext cx="770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ere writ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a letter while the Teddy Bear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ater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he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12900" spc="-1" strike="noStrike">
                <a:solidFill>
                  <a:srgbClr val="ff33cc"/>
                </a:solidFill>
                <a:latin typeface="Blade Runner Movie Font"/>
              </a:rPr>
              <a:t>The en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lipartof.com/images/clipart/thumbnail2/4706_boy_and_girl_eating_food_together.jpg"/>
          <p:cNvPicPr/>
          <p:nvPr/>
        </p:nvPicPr>
        <p:blipFill>
          <a:blip r:embed="rId1">
            <a:lum contrast="6000"/>
          </a:blip>
          <a:srcRect l="0" t="0" r="-11654" b="0"/>
          <a:stretch/>
        </p:blipFill>
        <p:spPr>
          <a:xfrm>
            <a:off x="2500200" y="642960"/>
            <a:ext cx="4300560" cy="398448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0" y="4500720"/>
            <a:ext cx="957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ra and Joe  </a:t>
            </a:r>
            <a:r>
              <a:rPr b="1" lang="es-ES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ere 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hamburger and 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1" lang="sl-SI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ce </a:t>
            </a: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sl-SI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rea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03280" y="620640"/>
            <a:ext cx="69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9640" y="1125360"/>
            <a:ext cx="8101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USE 1: Interrupted Action in </a:t>
            </a: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USE 2: Specific Time as an </a:t>
            </a: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interru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USE 3: Parallel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539640" y="62064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Arial"/>
              </a:rPr>
              <a:t>USE 1: Interrupted Action in the Past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pastcontinuous"/>
          <p:cNvPicPr/>
          <p:nvPr/>
        </p:nvPicPr>
        <p:blipFill>
          <a:blip r:embed="rId1"/>
          <a:stretch/>
        </p:blipFill>
        <p:spPr>
          <a:xfrm>
            <a:off x="1835280" y="2349360"/>
            <a:ext cx="5689440" cy="110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611280" y="4221000"/>
            <a:ext cx="820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Use the Past Continuous to indicate that 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onger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in the past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was interrupted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The interruption is usually a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horter action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 in the Simple Past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68360" y="836640"/>
            <a:ext cx="84247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as watching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film when she opened the doo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en the bell rang, she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as writing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poe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ile we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ere having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sandwitch, it started to snow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68360" y="549360"/>
            <a:ext cx="90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990099"/>
                </a:solidFill>
                <a:latin typeface="Arial"/>
              </a:rPr>
              <a:t>USE 2: Specific Time as an interruptio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astcontinuous"/>
          <p:cNvPicPr/>
          <p:nvPr/>
        </p:nvPicPr>
        <p:blipFill>
          <a:blip r:embed="rId1"/>
          <a:stretch/>
        </p:blipFill>
        <p:spPr>
          <a:xfrm>
            <a:off x="1258920" y="1989000"/>
            <a:ext cx="7128000" cy="1381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684360" y="3933720"/>
            <a:ext cx="806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USE 1 the Past Continuous is interrupted by a shorter action in the Simple P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wever, you can also use a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specific tim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s an interruption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9:33:45Z</dcterms:created>
  <dc:creator>Bj</dc:creator>
  <dc:description/>
  <dc:language>en-US</dc:language>
  <cp:lastModifiedBy>MCC</cp:lastModifiedBy>
  <dcterms:modified xsi:type="dcterms:W3CDTF">2011-04-06T08:23:00Z</dcterms:modified>
  <cp:revision>17</cp:revision>
  <dc:subject/>
  <dc:title>Diapositiva 1</dc:title>
</cp:coreProperties>
</file>